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199313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3F9E-B286-444E-A4F3-4EF0F8C7E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B412-3046-40B3-B269-FC4133D99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20D3-9D27-4BE1-9099-E05848014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25BD-CB29-4982-8B13-6981F2665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A006-202B-4159-98D5-B2C1841E1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8677-8037-447B-B6E9-AD1F06D6E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9ABD-3E39-481C-8912-27AA606F4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C7EF-0316-43BD-A478-844C34F42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37D7-987C-45EE-94D7-6BB87F6C0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F6B0-A80F-4110-8413-0740E31FE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D0CA-F6F5-4283-A293-6314D188A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FEC8-EC62-4831-883D-F3082348A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5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-247680">
              <a:spcBef>
                <a:spcPts val="75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3" marL="1728720" indent="-247680"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4" marL="2222640" indent="-2476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5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6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1104840"/>
            <a:ext cx="89042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4103280" y="6719400"/>
            <a:ext cx="2352600" cy="481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fr-FR" sz="1100" spc="-1" strike="noStrike">
                <a:solidFill>
                  <a:srgbClr val="0000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CEC5E2E-79F2-45A8-A1DD-B91CA0BF98C8}" type="slidenum">
              <a:rPr b="0" lang="fr-FR" sz="1100" spc="-1" strike="noStrike">
                <a:solidFill>
                  <a:srgbClr val="000099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8920" y="1007640"/>
            <a:ext cx="8569080" cy="2233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3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63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220680" y="3456000"/>
            <a:ext cx="3164040" cy="210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84720" y="3456000"/>
            <a:ext cx="3163680" cy="210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48400" y="3456000"/>
            <a:ext cx="3164040" cy="21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5640" y="215640"/>
            <a:ext cx="907236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600" spc="-1" strike="noStrike">
                <a:solidFill>
                  <a:srgbClr val="0066ff"/>
                </a:solidFill>
                <a:latin typeface="Comic Sans MS"/>
              </a:rPr>
              <a:t>Point de situation sur la mise en œuvre de la télétransmission sécurisée</a:t>
            </a:r>
            <a:endParaRPr b="0" lang="en-US" sz="36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1280" y="1297080"/>
            <a:ext cx="96490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Démarrage des échange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4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516 établissements ont démarré les tests avec les caisses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344 établissements ont fini les tests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317 établissements ont fait le PV de phase 3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21 établissements ont fini la phase 4 et donc démarré en réel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4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6B383-D7DA-4FF6-9D90-74A90D286E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5640" y="215640"/>
            <a:ext cx="907236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600" spc="-1" strike="noStrike">
                <a:solidFill>
                  <a:srgbClr val="0066ff"/>
                </a:solidFill>
                <a:latin typeface="Comic Sans MS"/>
              </a:rPr>
              <a:t>Point de situation sur la mise en œuvre de la télétransmission sécurisée</a:t>
            </a:r>
            <a:endParaRPr b="0" lang="en-US" sz="36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7280" y="1224000"/>
            <a:ext cx="9793440" cy="1123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Planning de bascule retour SMTP des retours NOEMI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01880" y="1965240"/>
          <a:ext cx="7991280" cy="4488120"/>
        </p:xfrm>
        <a:graphic>
          <a:graphicData uri="http://schemas.openxmlformats.org/drawingml/2006/table">
            <a:tbl>
              <a:tblPr/>
              <a:tblGrid>
                <a:gridCol w="1649160"/>
                <a:gridCol w="3703680"/>
                <a:gridCol w="263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Couloirs (CNAM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Numéros des départements concern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Date de basc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1-07-26-42-69-74-38-03-63-43-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8/05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CES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77-91-93-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2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CR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75-78-92-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2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9-12-31-32-46-65-81-82-24-33-40-47-64-11-30-34-48-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Guadeloupe-Martinique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éunion-Mayotte-Guy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9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PAC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A-2B-04 05-06-13-83-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6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BPD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2-29-35-56-44 49-53-72-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3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709E7-7948-48C3-A421-80B156F304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907272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Flux 1 euro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1280" y="1297080"/>
            <a:ext cx="96490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Point de situation sur la mise en œuvre de la télétransmission sécurisé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Plus de 37 millions de factures reçues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355 établissements émetteurs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L’ensemble des CTI a reçu des flux.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Actions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Poursuivre envoi des stocks 2005, 2006, 2007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Envoi des flux 2008.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4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E1E2C-EB25-4263-B1CC-12891983DC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Flux 1 euro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116680" y="1482840"/>
          <a:ext cx="4460760" cy="4953960"/>
        </p:xfrm>
        <a:graphic>
          <a:graphicData uri="http://schemas.openxmlformats.org/drawingml/2006/table">
            <a:tbl>
              <a:tblPr/>
              <a:tblGrid>
                <a:gridCol w="4460760"/>
              </a:tblGrid>
              <a:tr h="49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NCOMP. SPECIALITE EXEC. /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NCOMPATIBILITE ASU-NAT / REG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ETM CONNUE BDO NON TRANSM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DENTIFICATION PRESTATION OBLIG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ASSURE ABSENT DE LA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ETM NON TROUVEE EN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NATURE DE PRESTATION ERRON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ASSURE NON GERE PAR LA CAI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BENEFICIAIRE INCONNU DANS LA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NCOMP. NAT. PREST. SPE.EXECU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03280" y="1512720"/>
          <a:ext cx="4459320" cy="2646360"/>
        </p:xfrm>
        <a:graphic>
          <a:graphicData uri="http://schemas.openxmlformats.org/drawingml/2006/table">
            <a:tbl>
              <a:tblPr/>
              <a:tblGrid>
                <a:gridCol w="4459320"/>
              </a:tblGrid>
              <a:tr h="265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Les principaux motifs de rejets dans l’ordre décroissant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Echantillon 309 établissement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11 millions de factur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DBB03-5093-4DA7-AED9-E0C1F283BB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0:02:49Z</dcterms:created>
  <dc:creator>NOM Prenom</dc:creator>
  <dc:description/>
  <dc:language>en-US</dc:language>
  <cp:lastModifiedBy>MEDIA CENTER</cp:lastModifiedBy>
  <dcterms:modified xsi:type="dcterms:W3CDTF">2008-06-10T19:39:09Z</dcterms:modified>
  <cp:revision>394</cp:revision>
  <dc:subject/>
  <dc:title>Facturation directe  des consultations exter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