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FF6ECA8-45F4-4736-AEB1-5C01487AC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D6DFCA-385F-4769-B263-C7BF75AC643A}" type="datetime5">
              <a:rPr b="0" lang="en-GB" sz="600" spc="-1" strike="noStrike">
                <a:solidFill>
                  <a:srgbClr val="000000"/>
                </a:solidFill>
                <a:latin typeface="Arial"/>
              </a:rPr>
              <a:t>29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B8582-1871-4F9C-802A-2627EB7B18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8EB2137-0992-49D9-971F-54B1BC693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3E5B4A5-E352-4587-9A54-358510D441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076CE3D-7749-4860-AA8A-9DD11EA00F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FDBF1-8936-4A03-89E8-502474ED5C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4F85D-F618-488D-90D0-3B4720DED2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38DE0B6-39E6-4A85-A3D9-EA56CE396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84F6F543-51DB-4299-AD39-740DE3813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B5D216B-4324-477A-9CEE-4995E317AD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10C4FD1-831B-456D-AE6D-A266B5F06C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ED0D96C-7C6D-4186-9BD3-6A24D95C4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D067A2E-6925-47E0-901D-3DDB3671C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971F-5E8D-4083-A817-63C072D657D1}"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087E453-BF1F-47E3-8D8D-346E8081E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ED843D-A40E-4D81-8DA1-650C871DE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AFCF6-5BBB-4064-A2DC-DD66A87FE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1628E-6AFF-48BB-87E0-8CE1FFD78E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A400A-EB9E-408E-BDF9-C518C3913BC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387CE-7610-4463-9D76-C6CA87A4AD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283F-F7F8-4692-8FB8-77D0391DBD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A886BA-523E-49D7-91E9-FCFED2CB0D87}"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AA08E754-8113-4A38-914D-930E4F3B3DCC}"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3D492829-09FD-406C-A7B9-FC5ED3E556D6}"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C9671CB4-87CC-4899-899E-03B25EECF1A7}"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7D706CDA-CB1F-4640-8228-76AA49BD510D}"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996C928-E6F2-4F91-B219-8894AF2B6D80}"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