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0080625" cy="7199313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EC96-ACF2-4707-B42B-06C4C927D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EA1B-0F4B-4E1C-BA1B-10BA2C976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92CF-C8AE-4943-ADEB-55D7DDD01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470C-DDDE-41A0-B278-AA28075EF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21D2-BB1E-41E9-91B7-4B0B94BD5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51D4-52CF-4DC5-815D-30FDD9EE4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30F3-F5E0-4D79-AE47-E584DE680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BB4D-7955-4954-AE27-C62611FE3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24B6-0893-44AA-A526-AB68B025E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FE37-A2A8-43B6-BAE7-CB18E5099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F427-4DE1-487D-93FD-C374A4E22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8330-124C-41FC-AA61-1891D86B5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5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75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3" marL="1728720" indent="-247680"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4" marL="2222640" indent="-2476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5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6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1104840"/>
            <a:ext cx="8904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4103280" y="6719400"/>
            <a:ext cx="2352600" cy="481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1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015B023-5A82-4189-AE32-1F37EC2B971C}" type="slidenum">
              <a:rPr b="0" lang="fr-FR" sz="1100" spc="-1" strike="noStrike">
                <a:solidFill>
                  <a:srgbClr val="000099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1007640"/>
            <a:ext cx="856908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3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63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20680" y="3456000"/>
            <a:ext cx="3164040" cy="210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3456000"/>
            <a:ext cx="3163680" cy="210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48400" y="3456000"/>
            <a:ext cx="316404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Lecture des cartes Vitale </a:t>
            </a: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(1/2)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8000"/>
          </a:bodyPr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Rappel : les version 5.x des API de Lecture Vitale apportent les évolutions fonctionnelles suivantes :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Lecture des données v1 ter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fr-FR" sz="2200" spc="-1" strike="noStrike" u="sng">
                <a:solidFill>
                  <a:srgbClr val="0066ff"/>
                </a:solidFill>
                <a:uFillTx/>
                <a:latin typeface="Comic Sans MS"/>
              </a:rPr>
              <a:t>Réintroduction des dates de droits de base AMO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Existence d’un Médecin traitant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Modification de la gestion des dates de fin d'exonération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Remontée du numéro de série de la carte vitale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Prise en compte des vignettes bleues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Seul le libellé d'exonération du bénéficiaire est remonté </a:t>
            </a:r>
            <a:br>
              <a:rPr sz="2200"/>
            </a:br>
            <a:r>
              <a:rPr b="0" i="1" lang="fr-FR" sz="1900" spc="-1" strike="noStrike">
                <a:solidFill>
                  <a:srgbClr val="0066ff"/>
                </a:solidFill>
                <a:latin typeface="Comic Sans MS"/>
              </a:rPr>
              <a:t>(retrait du code libellé ETM ou du code couverture)</a:t>
            </a: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 </a:t>
            </a:r>
            <a:br>
              <a:rPr sz="2200"/>
            </a:b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La version 5 est une version majeure </a:t>
            </a:r>
            <a:br>
              <a:rPr sz="2200"/>
            </a:b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Les versions 4.x sont obsolètes au 31 mai 2008  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000" spc="-1" strike="noStrike">
                <a:solidFill>
                  <a:srgbClr val="0066ff"/>
                </a:solidFill>
                <a:latin typeface="Comic Sans MS"/>
              </a:rPr>
              <a:t>Le GIE SESAM-Vitale ne fournira plus de support technique sur ces versions au 30 juin 2008 </a:t>
            </a:r>
            <a:endParaRPr b="0" lang="en-US" sz="2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93AA-D2FC-4132-9184-4EF2B686B2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Lecture des cartes Vitale </a:t>
            </a:r>
            <a:r>
              <a:rPr b="0" lang="fr-FR" sz="4400" spc="-1" strike="noStrike">
                <a:solidFill>
                  <a:srgbClr val="0066ff"/>
                </a:solidFill>
                <a:latin typeface="Comic Sans MS"/>
              </a:rPr>
              <a:t>(2/2)</a:t>
            </a: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10009080" cy="495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La version 5.00 a été diffusée le 27/04/2007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La dernière version (v5.02) est disponible depuis le 26/11/2007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Intégration des API v5.x par les éditeurs </a:t>
            </a:r>
            <a:br>
              <a:rPr sz="2800"/>
            </a:br>
            <a:r>
              <a:rPr b="0" i="1" lang="fr-FR" sz="2400" spc="-1" strike="noStrike">
                <a:solidFill>
                  <a:srgbClr val="000099"/>
                </a:solidFill>
                <a:latin typeface="Comic Sans MS"/>
              </a:rPr>
              <a:t>(situation au 2/6/2008)</a:t>
            </a: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 :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2 éditeur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6 produits 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13 éditeurs ont téléchargé la version 5.02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 éditeurs ont effectué les tests CNDA en v5.01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3 éditeurs ont effectué les tests CNDA en v5.02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7498-7991-4CF7-86A2-EC257370F2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2:49Z</dcterms:created>
  <dc:creator>NOM Prenom</dc:creator>
  <dc:description/>
  <dc:language>en-US</dc:language>
  <cp:lastModifiedBy>MEDIA CENTER</cp:lastModifiedBy>
  <dcterms:modified xsi:type="dcterms:W3CDTF">2008-06-10T19:36:56Z</dcterms:modified>
  <cp:revision>394</cp:revision>
  <dc:subject/>
  <dc:title>Facturation directe  des consultations exter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