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95E8-E844-439D-9316-F58882D0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052C-A86C-4A20-A4CE-62CA0E12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9708-F6E4-48A2-A31F-1E049CF8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8E1A-FACD-4A93-94A3-66915D6E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4BD-7334-4A8B-B056-37A0AFC9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EC2-0729-444D-A5FC-51621432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B0E-CBAD-41A2-9BA3-05BDB69A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5CC4-9A9D-4E17-AFDC-64F8CC02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401F-7DD7-448E-9694-74043D34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8C3-F2C9-4E4A-8A2D-ECBB3A56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4872-E4EF-4B6C-A766-ED86B7B3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77F-4C1D-46D2-BE17-AC8C2BC8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4920"/>
            <a:ext cx="3962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7200" y="6248160"/>
            <a:ext cx="4572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BFD5-1292-4913-92E4-6519711C3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96080" y="5943600"/>
          <a:ext cx="114300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5943600"/>
                    <a:ext cx="11430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éunion avec les éditeurs de logiciels de facturation des établissements ex-DG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HO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1 juin 200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elle OUSSAR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HOS, bureau des systèmes d’information hospital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énéralisation de la télétransmiss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alendrier de bascule des couloi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50680"/>
            <a:ext cx="822960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-606600" y="1600200"/>
          <a:ext cx="8683920" cy="552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6600" y="1600200"/>
                    <a:ext cx="868392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858-462A-4CFD-A8F8-95B39FC4F6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énéralisation de la télétransmiss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appels et règles de bonne prat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els sur le schéma de dématérialisation des échan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GMSIH/DHOS/CNAMTS/MSA/DGFI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r les établissements : vigilance à toutes les étapes du circui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ification des 15 caractè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plissage des fiches contact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oitation de ces retou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aux de bord de suivi des flux envoyés avec les partenai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ation des organis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équences pour les éditeu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égration des retours dans la chaîne de factur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uration d’un contrôle bloquant sur les 15 caractè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ésentation DGFI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419640" y="5445000"/>
          <a:ext cx="914400" cy="714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544500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3357-99FD-41C5-A65C-1B129B9A54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sur la cert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entation CNAM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DA11-FF02-4775-A9E9-21B8930029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age des médicaments rétrocéd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CNAM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aboration d’un « mode opératoire » avec l’assurance maladie pour la mise en œuvre par les établissemen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égration dans le Guide de facturation disponible sur le site de la DHOS, dans la suite du guide d’admi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ôles assurance maladie : date d’application à fix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788000" y="1773360"/>
          <a:ext cx="914400" cy="771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7336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304-6F58-4083-A8F3-703594A822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e à jour des certificats de chiffr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GIP CPS/DCI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114800" y="3071880"/>
          <a:ext cx="914400" cy="714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07188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8FBD-6DBF-4AC5-B630-8CFE598DC0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des dro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at d’avancement du projet consultation des droits (CD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ésentation CNAMTS/DC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 de lecture des cartes Vitale (V4 et V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ésentation CNAMTS/DC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0168-A454-40F2-B4BA-8198313387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e situation RP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entations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P CPS/MI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SI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58920" y="4221000"/>
          <a:ext cx="914400" cy="714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2100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B685-4576-4D45-9619-900D15163C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uration individuelle direc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èse d’une expérimentation en 2009 en attente d’arbitr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tiers préala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quisition des dro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é des données relatives aux droits des patients : API de lecture des cartes Sésame Vitale, bornes Vitale de mise à jour, consultation des droits en lig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en pla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’outils d’auto-diagno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ableaux de bord CNAMTS - MS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en pla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’outils d’amélioration des pratiq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tier MEAH recouvrement : généralisation 40 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 d’analyse des rejets, juin 200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 d’admission, DHOS, février 2008, puis guide de factur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et form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 personnels concerné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s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 informations dans 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prise en charg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26FF-94F4-48D0-A274-4DEB3D0F4B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diver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dre du jou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e situation sur la mise en place de l’infrastructure d’échanges sécurisé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tat des lieux, mai 200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alités de simplif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age UCD médica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au point sur la certif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els sur le schéma de dématérialis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 certificats de chiffr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des dro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I Vita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uration directe et chantiers préalab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80F0-D5A4-4A9B-B35E-791B9C14F9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létransmission : état des lieux (1) </a:t>
            </a: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frastructure d’échanges sécurisé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sultats de l’enquête DHOS mai 2008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ion de la mise en place d’une infrastructure d’échanges sécurisée et de l’envoi des flux 1 eu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5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 établissements ont une infrastructure d’échanges sécurisé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 % des CHU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e 55 % en janvier 2008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ès de 16 % sont en B2 2005 sécurisé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 établissements sont 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 un tiers d’entre eux attendent les conditions de validation de la phase 4 pour s ’y enga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t en phase 4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 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’ont pas encore débuté les t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7097-7B30-48BF-941E-2995CFB6C8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létransmission : état des lieux (2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lux 1 eu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 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 établissements ont constitué leurs stocks 1 euro, don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 de 60 % au moins une anné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ès de 80 % pour les 3 années (2005-2006-200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 établissements ayant transmis leurs stocks ont reçu une confirmation de la caisse pivot, mais n’ont pas de retour sur leur trait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rejets sont quantifiés : taux de rejet moyen 38 %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à pondérer avec le taux de réponse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sont ni identifiés ni analysé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at des lieux de la CNAM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D5D0-265C-4FFD-B014-177E0623A5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1600" y="990720"/>
            <a:ext cx="8643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isement des critères « capacité de remontée des stocks 1€ » et « norme de télétransmission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62 établissements ont répondu à l’une ou l’autre des questions (95%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524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tat d’avancement : cartographie des établiss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738360" y="5146560"/>
            <a:ext cx="1338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 disponi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 = ri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-663840" y="4366080"/>
            <a:ext cx="20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tat des 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90800" y="2708280"/>
            <a:ext cx="21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élé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43120" y="398304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poni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62440" y="2935440"/>
            <a:ext cx="13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 sécurisé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81600" y="2927520"/>
            <a:ext cx="142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écurisé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17800" y="3276720"/>
            <a:ext cx="1440" cy="273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17800" y="3276720"/>
            <a:ext cx="20520" cy="273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7840" y="3297240"/>
            <a:ext cx="1440" cy="271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57840" y="3297240"/>
            <a:ext cx="20520" cy="271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97880" y="3297240"/>
            <a:ext cx="1440" cy="271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97880" y="3297240"/>
            <a:ext cx="20520" cy="271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38320" y="3276720"/>
            <a:ext cx="5680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3276720"/>
            <a:ext cx="56800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38320" y="4633920"/>
            <a:ext cx="5680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38320" y="4633920"/>
            <a:ext cx="56800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38320" y="5991120"/>
            <a:ext cx="5680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38320" y="5991120"/>
            <a:ext cx="568008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2276640"/>
            <a:ext cx="1661760" cy="515880"/>
          </a:xfrm>
          <a:prstGeom prst="wedgeRectCallout">
            <a:avLst>
              <a:gd name="adj1" fmla="val -50763"/>
              <a:gd name="adj2" fmla="val 21646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 les plus avanc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240" y="6151680"/>
            <a:ext cx="1662120" cy="515880"/>
          </a:xfrm>
          <a:prstGeom prst="wedgeRectCallout">
            <a:avLst>
              <a:gd name="adj1" fmla="val 41689"/>
              <a:gd name="adj2" fmla="val -12446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 les plus en ret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2600" y="3797280"/>
            <a:ext cx="23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9 ES, soit 1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07040" y="379728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2 ES, soit 4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02360" y="5160960"/>
            <a:ext cx="233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6 ES, soit 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28840" y="4902120"/>
            <a:ext cx="2352600" cy="8323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1 ES, soit 1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63880" y="6129360"/>
            <a:ext cx="469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C40-DA8C-421D-B096-DEE64EA835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 flipV="1">
            <a:off x="1324080" y="921960"/>
            <a:ext cx="6946920" cy="454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86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de progression de la mise en place de la télétransmi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6480" y="981000"/>
            <a:ext cx="181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État d’avancement des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35040" y="5632560"/>
            <a:ext cx="139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cune ou antérieure à 2003 non sécur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2960" y="56325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3 sécur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56325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5 sécur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11640" y="5632560"/>
            <a:ext cx="103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3 non sécur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24080" y="546876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1336320" y="1669680"/>
            <a:ext cx="12600" cy="376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94000" y="4343400"/>
            <a:ext cx="1442880" cy="906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0400" y="2708280"/>
            <a:ext cx="1443240" cy="906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6400" y="4330800"/>
            <a:ext cx="1442880" cy="906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3480" y="3170160"/>
            <a:ext cx="1442880" cy="906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7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64000" y="4292640"/>
            <a:ext cx="1443240" cy="906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03640" y="2708280"/>
            <a:ext cx="1443240" cy="906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6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12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29120" y="1413000"/>
            <a:ext cx="1443240" cy="906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3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6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4360" y="4292640"/>
            <a:ext cx="1443240" cy="906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77080" y="2852640"/>
            <a:ext cx="1442880" cy="906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59640" y="1557360"/>
            <a:ext cx="1442880" cy="90648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1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46960" y="907920"/>
            <a:ext cx="1662120" cy="516240"/>
          </a:xfrm>
          <a:prstGeom prst="wedgeRectCallout">
            <a:avLst>
              <a:gd name="adj1" fmla="val -13421"/>
              <a:gd name="adj2" fmla="val -476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itionnement 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87640" y="1484280"/>
            <a:ext cx="1443240" cy="906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2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3679920"/>
            <a:ext cx="2035440" cy="1815840"/>
          </a:xfrm>
          <a:custGeom>
            <a:avLst/>
            <a:gdLst/>
            <a:ahLst/>
            <a:rect l="l" t="t" r="r" b="b"/>
            <a:pathLst>
              <a:path w="1112" h="981">
                <a:moveTo>
                  <a:pt x="0" y="0"/>
                </a:moveTo>
                <a:cubicBezTo>
                  <a:pt x="127" y="42"/>
                  <a:pt x="414" y="48"/>
                  <a:pt x="763" y="251"/>
                </a:cubicBezTo>
                <a:cubicBezTo>
                  <a:pt x="1112" y="454"/>
                  <a:pt x="853" y="829"/>
                  <a:pt x="876" y="981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20386200">
            <a:off x="2161800" y="1831680"/>
            <a:ext cx="3273480" cy="4111560"/>
          </a:xfrm>
          <a:custGeom>
            <a:avLst/>
            <a:gdLst/>
            <a:ahLst/>
            <a:rect l="l" t="t" r="r" b="b"/>
            <a:pathLst>
              <a:path w="1112" h="981">
                <a:moveTo>
                  <a:pt x="0" y="0"/>
                </a:moveTo>
                <a:cubicBezTo>
                  <a:pt x="127" y="42"/>
                  <a:pt x="414" y="48"/>
                  <a:pt x="763" y="251"/>
                </a:cubicBezTo>
                <a:cubicBezTo>
                  <a:pt x="1112" y="454"/>
                  <a:pt x="853" y="829"/>
                  <a:pt x="876" y="981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346040" y="3262320"/>
            <a:ext cx="230400" cy="2491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056040" y="4158720"/>
            <a:ext cx="271440" cy="2509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065400" y="5214960"/>
            <a:ext cx="300240" cy="209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282760" y="2178000"/>
            <a:ext cx="314280" cy="222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489560" y="2707920"/>
            <a:ext cx="298440" cy="2300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238720" y="4119480"/>
            <a:ext cx="341280" cy="2793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8240" y="1773360"/>
            <a:ext cx="88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8240" y="295416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8240" y="4398840"/>
            <a:ext cx="138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s non débu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805360"/>
            <a:ext cx="1584360" cy="501840"/>
          </a:xfrm>
          <a:prstGeom prst="wedgeRectCallout">
            <a:avLst>
              <a:gd name="adj1" fmla="val 40180"/>
              <a:gd name="adj2" fmla="val -13322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 en position de vigi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6021360"/>
            <a:ext cx="1505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iveau de sécurisation de la télé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CAA-3C5D-4BB5-B645-A6E01D869F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172200" y="1685520"/>
            <a:ext cx="272736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259560" algn="just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5 éditeurs équipent 70 % des établissements 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F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P MIPI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 KESS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P CP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MENS HEALTH SERVI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259560" algn="just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roposent une solution certifiée et sécurisé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259560" algn="just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utres éditeurs en B2 2005 sécurisée: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NER équipe 10 établisse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E SAS : 6 établisse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I.S : 5 établisse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52280"/>
            <a:ext cx="8163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élétransmission : état des lieux (3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oom sur les édi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8600" y="1523880"/>
          <a:ext cx="5791320" cy="426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5791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53F1-C5B9-45F1-B17D-AA747554C4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énéralisation de la télétransmiss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dalités de simplification phase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 entre les partenaires : DHOS/CNAMTS/MSA/DGF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cation de la phase 3 : nombre limité de tests effectués sur les factures envoyées par les établissements à leur caisse pivot (envoi d’un fichier d’une journée ordinaire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’établissement reste toutefois libre d’accroître le nombre de fichiers à teste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ègement applicable depuis juin 2007 aux établissements déjà télé transmetteurs, étendu aux établissements non télé transmetteurs, à une triple condition 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tests doivent porter sur 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érimètre d’activité de l’établiss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échelonnement possible des tests sur plusieurs journées de traitement)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 de rejet doivent être analysé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vec la caisse pivot, pour procéder aux ajustements induit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’ensemble des partenaires concernés doit être inform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 ces tests et de la gestion des rejet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8940-CF9A-4EF1-8418-56778C9BD2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énéralisation de la télétransmiss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dalités de simplification phase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s d’échang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ré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ec chaq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isse pivo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un des établissements dont elle est piv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el pour tous les établissement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mplir les fiches conta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adresse mail pour le SN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érifier la bonne récupération des retours NOEMI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 ’assurer de l ’exploitation de ces retou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V phase 4 élaboré et signé par le comptable public après vérification de la correcte transmission des fichiers NOEMIE 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flux de paiement (réf. 578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flux de rejet (réf. 908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usion nationale et locale d’une inform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à tous les partenai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er aux autres établissements et comptables dépendant de cette caisse pivot que les échanges en réel peuvent début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7668-8C2E-4F7F-BB0A-55A29C1AD9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08:39:58Z</dcterms:created>
  <dc:creator>philippe</dc:creator>
  <dc:description/>
  <dc:language>en-US</dc:language>
  <cp:lastModifiedBy>OUSSAR Estelle</cp:lastModifiedBy>
  <cp:lastPrinted>2007-11-06T12:46:12Z</cp:lastPrinted>
  <dcterms:modified xsi:type="dcterms:W3CDTF">2008-06-17T11:16:47Z</dcterms:modified>
  <cp:revision>268</cp:revision>
  <dc:subject/>
  <dc:title>Séminaire Oracle</dc:title>
</cp:coreProperties>
</file>