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F7A3-0E67-4895-9E25-EACDEFF2E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F361-A109-4309-AE78-BFBCCE013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03A7-3FD3-48C3-A55F-7AD48842F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FF38-2750-45C7-B669-1BC2C0F8F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643F-FAAB-44EA-B3EA-F632F3A07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F510-CC2E-49D3-AD9D-0B37799E4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23FD-135F-4A4A-916B-FDEF0962A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D900-9EBC-41FC-A626-B9B6A6ECB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B49B-D7E9-4443-BA80-F9AE5B740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3F89-A6D1-4273-AC97-C75469C86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1FB9-0D2B-43AB-B7E4-23ADCDFC0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0BBB-B97D-4DD6-AAF2-800B878C5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19976C8-4E68-4979-B28F-B2A0697FD9DC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493560" indent="0"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2" marL="987480" algn="ctr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3" marL="1481040" algn="ctr"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1900" spc="-1" strike="noStrike">
              <a:solidFill>
                <a:srgbClr val="000099"/>
              </a:solidFill>
              <a:latin typeface="Comic Sans MS"/>
            </a:endParaRPr>
          </a:p>
          <a:p>
            <a:pPr lvl="4" marL="1974960" algn="ctr">
              <a:spcBef>
                <a:spcPts val="275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5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6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6000" y="791640"/>
            <a:ext cx="986472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600" spc="-1" strike="noStrike">
                <a:solidFill>
                  <a:srgbClr val="0066ff"/>
                </a:solidFill>
                <a:latin typeface="Comic Sans MS"/>
              </a:rPr>
              <a:t>Programme Hôpital</a:t>
            </a:r>
            <a:endParaRPr b="0" lang="en-US" sz="6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84000" y="4176360"/>
            <a:ext cx="7056360" cy="2320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000" spc="-1" strike="noStrike">
                <a:solidFill>
                  <a:srgbClr val="000099"/>
                </a:solidFill>
                <a:latin typeface="Comic Sans MS"/>
              </a:rPr>
              <a:t>Réunion éditeurs du 11 juin 2008</a:t>
            </a:r>
            <a:endParaRPr b="0" lang="en-US" sz="6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7280" y="1584360"/>
            <a:ext cx="9793440" cy="468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16 certificats délivrés pour le JE 022003-B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2 certificats délivrés pour le JE 062005-A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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’ensemble des produits certifiés intègre la participation forfaitaire 1 euro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0">
              <a:spcBef>
                <a:spcPts val="27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4 dossiers sont en cours 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46B3-8E0A-4813-A123-A012D900F0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6000" y="1512360"/>
            <a:ext cx="986472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Évolution de la 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Mise à disposition sur le site du CNDA du JE B2 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06-2005-B opposable à partir du 1er juin 2008.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Décision en cours de signature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Fin de la certification des normes B2 2003 et B2 06-2005A au 31 août 2008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Les éditeurs qui ont déposé un dossier au CNDA avec le jeu d’essai dans ces 2 normes ont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Comic Sans MS"/>
              </a:rPr>
              <a:t>1 mois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our terminer la procédure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1ACB-8954-4D01-A1CF-6758B574A6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rocédure de certification pour le JE 06-2005 B (à périmètre fonctionnel identique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Nouveau logiciel 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0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2003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06-2005 A :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différentielle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2879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9640" y="2664000"/>
            <a:ext cx="73080" cy="1152360"/>
          </a:xfrm>
          <a:custGeom>
            <a:avLst/>
            <a:gdLst>
              <a:gd name="textAreaLeft" fmla="*/ 0 w 73080"/>
              <a:gd name="textAreaRight" fmla="*/ 2628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95A6-D599-414B-9B8B-607D372A0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OUSSAR Estelle</cp:lastModifiedBy>
  <dcterms:modified xsi:type="dcterms:W3CDTF">2008-06-10T10:12:55Z</dcterms:modified>
  <cp:revision>393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